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101-C0DC-4F0F-AAC0-8CF9AB49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E72-AC1D-49F1-A9CB-5D9D23EF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FEB-FA1F-46AA-B9A8-6318512A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2FE-D087-4A07-8409-33A8009F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9A0-32A2-4E64-ACA9-10250714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DD6-A821-403B-A045-52001C82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E61-4486-4B6A-802D-CAC62B6F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10A-F873-48EC-A55F-48AA3F83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380-A301-490B-9C75-F664A7A1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2F2-AC2D-44E1-888E-3C57262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023-5456-4825-9863-73840EDD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4C1-9FBA-44B5-938D-2EAB39F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17BE-F62D-4A57-9C00-A02DE9076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2"/>
          <p:cNvCxnSpPr>
            <a:stCxn id="50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3"/>
          <p:cNvCxnSpPr>
            <a:endCxn id="45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5"/>
          <p:cNvCxnSpPr>
            <a:endCxn id="47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7"/>
          <p:cNvCxnSpPr>
            <a:endCxn id="48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>
            <a:endCxn id="50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>
            <a:stCxn id="76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>
            <a:endCxn id="72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30"/>
          <p:cNvCxnSpPr>
            <a:endCxn id="74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7"/>
          <p:cNvCxnSpPr>
            <a:stCxn id="82" idx="4"/>
            <a:endCxn id="76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50"/>
          <p:cNvCxnSpPr>
            <a:endCxn id="83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12"/>
          <p:cNvCxnSpPr>
            <a:stCxn id="99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2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5"/>
          <p:cNvCxnSpPr>
            <a:stCxn id="99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7"/>
          <p:cNvCxnSpPr>
            <a:endCxn id="99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09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2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51"/>
          <p:cNvCxnSpPr>
            <a:stCxn id="98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6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1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2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Пользователь</cp:lastModifiedBy>
  <dcterms:modified xsi:type="dcterms:W3CDTF">2014-11-27T05:51:32Z</dcterms:modified>
  <cp:revision>19</cp:revision>
  <dc:subject/>
  <dc:title>Операторные скобки Сложные условия</dc:title>
</cp:coreProperties>
</file>